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Quietschende_Reifen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4440" y="9723240"/>
            <a:ext cx="307800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A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C1CBFB-9124-4333-BC20-845CD003A3CE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91E605-7945-4D28-98C2-A62695093651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dieser Folie in das Layout „leere Folie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oberen Teil der Folie den Text „Flintstones“ als WordArt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im unteren Teil das Bild Hole_Flintstones.jpg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5F61A7-7E03-494A-B3C8-D7016A3009BE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Ändern Sie das Folienlayout auf „Zweispaltiger Text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pieren Sie den Text „...und der Rüsselstaubsauger“ in die zweite Sp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dnen Sie in der ersten Spalte Bild und Text so an, daß das Bild oben und der Text darunter ste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Rüsselstaubsauger“ soll beim Erscheinen ro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C2BD12-B85F-4199-9405-8CE8D4689AAA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ändern sie Form und Ausrichtung von Textfeld und Bild so, daß sich der Text links und das Bild rechts befind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2444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157431-DCE4-40D0-A400-0964431AFC46}" type="slidenum">
              <a:rPr b="0" lang="de-A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Bild „Barney und Fred im Auto“ soll automatisch nach 2 Sekunden erschei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s Eingangseffekt wählen Sie „Text“ und „von links oben“, als Geräusch wählen Sie „Motor“ oder „quietschende Reif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30E-83CC-4979-9E82-FB9CF003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E8E-855A-422E-9D1E-A927594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B5F-0C67-434A-8968-701B9FC6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2EB-8669-4E0F-A598-5D03AAD8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408A-A3D0-4FD7-86FC-AADB86AD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6ED1-FB0A-4C82-AE36-609DC47D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0428-EB1B-489C-8795-2B5C6339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016C-6D40-46A5-9F87-0E34E8F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F5D3-AC93-4A95-932D-A55155E9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7179-ADBD-473A-9C81-779CD39E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4035-844A-4E8B-8C44-A969EBF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057-9241-4206-8850-6E92CDE2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7879-09ED-4F42-A96D-0905CB09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2BC6-8860-4B91-808D-92CD24B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65F3-B288-421B-ADE7-ED1A26F4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C841-698B-419B-800B-0EC4F021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0CF2-C590-4340-9407-CFC1710B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65D-1F3A-4B16-A5C8-113FAD0E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DD8-EEFC-4F99-BA12-8B2CCD2A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F51-FF25-42C3-9F06-9CB2A0B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619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B3B-122D-4386-8965-2C54E48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856-D5DC-4D71-946A-340F084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950-5430-47B4-88BC-56BA152B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FCE-1F26-4128-A494-EB3F082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72A0-5106-4586-AFFF-6D02A59F6CB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4259-51A3-4B3C-AF3E-91474BC81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454800">
            <a:off x="7236000" y="549000"/>
            <a:ext cx="1439640" cy="1224000"/>
          </a:xfrm>
          <a:prstGeom prst="star5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49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ngenbe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78D7-1A79-4375-8ABA-9F31A45B50D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D7B9-F809-4CC7-8C97-424D27332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Quietschende_Reife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652200">
            <a:off x="2268360" y="105264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Flintst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1435600">
            <a:off x="2975040" y="2928600"/>
            <a:ext cx="3529080" cy="254160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2800" y="658440"/>
            <a:ext cx="6137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Nicht zu vergessen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5373720"/>
            <a:ext cx="3809880" cy="730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Lowen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6520" y="1989000"/>
            <a:ext cx="381024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und der Rüsselstaubsauger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20" name="Picture 5" descr="D:\Kurs 4015\Präsentationen\Flintstones\Russelstaubsauger.jpg"/>
          <p:cNvPicPr/>
          <p:nvPr/>
        </p:nvPicPr>
        <p:blipFill>
          <a:blip r:embed="rId1"/>
          <a:stretch/>
        </p:blipFill>
        <p:spPr>
          <a:xfrm>
            <a:off x="5435640" y="4221000"/>
            <a:ext cx="2286000" cy="149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:\Kurs 4015\Präsentationen\Flintstones\Pebbles_mit_Lowen.jpg"/>
          <p:cNvPicPr/>
          <p:nvPr/>
        </p:nvPicPr>
        <p:blipFill>
          <a:blip r:embed="rId2"/>
          <a:stretch/>
        </p:blipFill>
        <p:spPr>
          <a:xfrm>
            <a:off x="1187280" y="2205000"/>
            <a:ext cx="2286000" cy="2639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761-E65F-4955-A4FB-77DC057D0BE0}" type="slidenum">
              <a:t>10</a:t>
            </a:fld>
          </a:p>
        </p:txBody>
      </p:sp>
    </p:spTree>
  </p:cSld>
  <p:transition advTm="5000"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cc"/>
                </a:solidFill>
                <a:latin typeface="Times New Roman"/>
              </a:rPr>
              <a:t>Die Flintstones im Überbli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4360" y="1989000"/>
            <a:ext cx="7771680" cy="4114080"/>
            <a:chOff x="684360" y="1989000"/>
            <a:chExt cx="7771680" cy="4114080"/>
          </a:xfrm>
        </p:grpSpPr>
        <p:cxnSp>
          <p:nvCxnSpPr>
            <p:cNvPr id="124" name="_s34847"/>
            <p:cNvCxnSpPr>
              <a:stCxn id="125" idx="1"/>
              <a:endCxn id="126" idx="2"/>
            </p:cNvCxnSpPr>
            <p:nvPr/>
          </p:nvCxnSpPr>
          <p:spPr>
            <a:xfrm rot="10800000">
              <a:off x="3883680" y="4339440"/>
              <a:ext cx="4575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4845"/>
            <p:cNvCxnSpPr>
              <a:stCxn id="128" idx="3"/>
              <a:endCxn id="126" idx="2"/>
            </p:cNvCxnSpPr>
            <p:nvPr/>
          </p:nvCxnSpPr>
          <p:spPr>
            <a:xfrm flipV="1">
              <a:off x="3426840" y="4340160"/>
              <a:ext cx="457560" cy="146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4843"/>
            <p:cNvCxnSpPr>
              <a:stCxn id="130" idx="3"/>
              <a:endCxn id="126" idx="2"/>
            </p:cNvCxnSpPr>
            <p:nvPr/>
          </p:nvCxnSpPr>
          <p:spPr>
            <a:xfrm flipV="1">
              <a:off x="3426840" y="4339800"/>
              <a:ext cx="4575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4833"/>
            <p:cNvCxnSpPr>
              <a:stCxn id="132" idx="0"/>
              <a:endCxn id="133" idx="2"/>
            </p:cNvCxnSpPr>
            <p:nvPr/>
          </p:nvCxnSpPr>
          <p:spPr>
            <a:xfrm flipV="1">
              <a:off x="7084440" y="3458160"/>
              <a:ext cx="3240" cy="29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34831"/>
            <p:cNvCxnSpPr>
              <a:stCxn id="126" idx="0"/>
              <a:endCxn id="135" idx="2"/>
            </p:cNvCxnSpPr>
            <p:nvPr/>
          </p:nvCxnSpPr>
          <p:spPr>
            <a:xfrm flipV="1">
              <a:off x="3884040" y="3458160"/>
              <a:ext cx="3240" cy="29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34827"/>
            <p:cNvCxnSpPr>
              <a:stCxn id="133" idx="0"/>
              <a:endCxn id="137" idx="2"/>
            </p:cNvCxnSpPr>
            <p:nvPr/>
          </p:nvCxnSpPr>
          <p:spPr>
            <a:xfrm flipV="1" rot="16200000">
              <a:off x="6136920" y="1922760"/>
              <a:ext cx="294480" cy="1600920"/>
            </a:xfrm>
            <a:prstGeom prst="bentConnector3">
              <a:avLst>
                <a:gd name="adj1" fmla="val 38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34826"/>
            <p:cNvCxnSpPr>
              <a:stCxn id="135" idx="0"/>
              <a:endCxn id="137" idx="2"/>
            </p:cNvCxnSpPr>
            <p:nvPr/>
          </p:nvCxnSpPr>
          <p:spPr>
            <a:xfrm flipH="1" flipV="1" rot="5400000">
              <a:off x="4536720" y="1923120"/>
              <a:ext cx="294480" cy="1600200"/>
            </a:xfrm>
            <a:prstGeom prst="bentConnector3">
              <a:avLst>
                <a:gd name="adj1" fmla="val 38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34822"/>
            <p:cNvSpPr/>
            <p:nvPr/>
          </p:nvSpPr>
          <p:spPr>
            <a:xfrm>
              <a:off x="4112640" y="198900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ie zentralen Figur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34823"/>
            <p:cNvSpPr/>
            <p:nvPr/>
          </p:nvSpPr>
          <p:spPr>
            <a:xfrm>
              <a:off x="2512800" y="287064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Fred und Wilm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34824"/>
            <p:cNvSpPr/>
            <p:nvPr/>
          </p:nvSpPr>
          <p:spPr>
            <a:xfrm>
              <a:off x="5713200" y="287064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Betty und Barne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34830"/>
            <p:cNvSpPr/>
            <p:nvPr/>
          </p:nvSpPr>
          <p:spPr>
            <a:xfrm>
              <a:off x="2512800" y="375228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Tochter Pebb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34832"/>
            <p:cNvSpPr/>
            <p:nvPr/>
          </p:nvSpPr>
          <p:spPr>
            <a:xfrm>
              <a:off x="5713200" y="375228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BamBam mit der Keu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34842"/>
            <p:cNvSpPr/>
            <p:nvPr/>
          </p:nvSpPr>
          <p:spPr>
            <a:xfrm>
              <a:off x="684360" y="463392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ino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er Haushu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34844"/>
            <p:cNvSpPr/>
            <p:nvPr/>
          </p:nvSpPr>
          <p:spPr>
            <a:xfrm>
              <a:off x="684360" y="551556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Rüsselstaubsaug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34846"/>
            <p:cNvSpPr/>
            <p:nvPr/>
          </p:nvSpPr>
          <p:spPr>
            <a:xfrm>
              <a:off x="4341600" y="4633920"/>
              <a:ext cx="2742840" cy="587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Low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ie Katz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4D8-7A11-4860-81D5-D5ED7438106A}" type="slidenum">
              <a:t>11</a:t>
            </a:fld>
          </a:p>
        </p:txBody>
      </p:sp>
    </p:spTree>
  </p:cSld>
  <p:transition advTm="5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lintstones...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19112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meet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're a modern stone age fam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the town of bedroc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're a page right out of hist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t's ride with the family down the str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ough the courtesy of Fred's two fee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you're with the Flintsto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a yabb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dabba doo ti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'll have a great old time.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41" name="Picture 4" descr="D:\Kurs 4015\Präsentationen\Flintstones\Dino_singend.jpg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482-E0CD-43DD-84AA-39C28DA96D51}" type="slidenum">
              <a:t>12</a:t>
            </a:fld>
          </a:p>
        </p:txBody>
      </p:sp>
    </p:spTree>
  </p:cSld>
  <p:transition advTm="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Fred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arney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eide Männer...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Fred und Wilma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Pebbles und Dino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etty und Barney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BamBam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Pebbles und BamBam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Lowen und Rüsselstaubsauger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Comic Sans MS"/>
              </a:rPr>
              <a:t>Überblick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Flintstones-Song</a:t>
            </a:r>
            <a:endParaRPr b="0" lang="en-US" sz="2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7D6-1882-4799-A18A-76592778BBC9}" type="slidenum">
              <a:t>2</a:t>
            </a:fld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658440"/>
            <a:ext cx="2465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Fre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920" y="5013360"/>
            <a:ext cx="7199280" cy="1442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Der ungestüme Fred ist der klassische Verlierer, der sich nie gegen seine Frau Wilma durchsetzen kann...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96" name="Picture 4" descr="D:\Kurs 4015\Präsentationen\Flintstones\Fred_mit_Matschbirne.jpg"/>
          <p:cNvPicPr/>
          <p:nvPr/>
        </p:nvPicPr>
        <p:blipFill>
          <a:blip r:embed="rId1"/>
          <a:stretch/>
        </p:blipFill>
        <p:spPr>
          <a:xfrm>
            <a:off x="5148360" y="1557360"/>
            <a:ext cx="2890800" cy="3505320"/>
          </a:xfrm>
          <a:prstGeom prst="rect">
            <a:avLst/>
          </a:prstGeom>
          <a:ln w="0">
            <a:noFill/>
          </a:ln>
        </p:spPr>
      </p:pic>
      <p:sp>
        <p:nvSpPr>
          <p:cNvPr id="97" name="PubOvalCallout"/>
          <p:cNvSpPr/>
          <p:nvPr/>
        </p:nvSpPr>
        <p:spPr>
          <a:xfrm rot="20382000">
            <a:off x="3779640" y="836280"/>
            <a:ext cx="2620800" cy="1655640"/>
          </a:xfrm>
          <a:custGeom>
            <a:avLst/>
            <a:gdLst>
              <a:gd name="textAreaLeft" fmla="*/ 383760 w 2620800"/>
              <a:gd name="textAreaRight" fmla="*/ 2237040 w 2620800"/>
              <a:gd name="textAreaTop" fmla="*/ 181800 h 1655640"/>
              <a:gd name="textAreaBottom" fmla="*/ 1060560 h 16556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ilmaa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876-CCDA-468B-9AF0-1E6951BF8B82}" type="slidenum">
              <a:t>3</a:t>
            </a:fld>
          </a:p>
        </p:txBody>
      </p:sp>
    </p:spTree>
  </p:cSld>
  <p:transition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arne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41960" y="1989000"/>
            <a:ext cx="41148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während sein bester Freund Barney Geröllheimer (Barney Rubble), der auf den ersten Blick etwas minderbemittelt wirkt, immer wieder als Glückspilz erweist.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0" name="Picture 4" descr="D:\Kurs 4015\Präsentationen\Flintstones\Barney_3.jpg"/>
          <p:cNvPicPr/>
          <p:nvPr/>
        </p:nvPicPr>
        <p:blipFill>
          <a:blip r:embed="rId1"/>
          <a:stretch/>
        </p:blipFill>
        <p:spPr>
          <a:xfrm>
            <a:off x="1143000" y="2895480"/>
            <a:ext cx="2286000" cy="24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B57-A644-4848-87DC-5B7DBFB2704E}" type="slidenum">
              <a:t>4</a:t>
            </a:fld>
          </a:p>
        </p:txBody>
      </p:sp>
    </p:spTree>
  </p:cSld>
  <p:transition advTm="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eide Männer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5120" y="4229280"/>
            <a:ext cx="3809880" cy="1752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...arbeiten im Steinbruch von Mr.Schiefer (Mr.GeorgeSlate)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3" name="Picture 4" descr="D:\Kurs 4015\Präsentationen\Flintstones\Barney_und_Fred_im_Auto.jpg"/>
          <p:cNvPicPr/>
          <p:nvPr/>
        </p:nvPicPr>
        <p:blipFill>
          <a:blip r:embed="rId1"/>
          <a:stretch/>
        </p:blipFill>
        <p:spPr>
          <a:xfrm>
            <a:off x="5651640" y="4149720"/>
            <a:ext cx="228600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B9E-64A2-46C2-9F90-CE2D7CD74794}" type="slidenum">
              <a:t>5</a:t>
            </a:fld>
          </a:p>
        </p:txBody>
      </p:sp>
    </p:spTree>
  </p:cSld>
  <p:transition advTm="5000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ietschende_Reif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Fred und Wil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56000" y="4869000"/>
            <a:ext cx="4114800" cy="1218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Comic Sans MS"/>
              </a:rPr>
              <a:t>Vervollständigt wird die Familie Feuerstein...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6" name="Picture 4" descr="D:\Kurs 4015\Präsentationen\Flintstones\Fred_and_Wilma_kussend.jpg"/>
          <p:cNvPicPr/>
          <p:nvPr/>
        </p:nvPicPr>
        <p:blipFill>
          <a:blip r:embed="rId1"/>
          <a:stretch/>
        </p:blipFill>
        <p:spPr>
          <a:xfrm>
            <a:off x="1066680" y="2133720"/>
            <a:ext cx="27590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493-1B92-4D36-BF61-64F8F14A6863}" type="slidenum">
              <a:t>6</a:t>
            </a:fld>
          </a:p>
        </p:txBody>
      </p:sp>
    </p:spTree>
  </p:cSld>
  <p:transition advTm="5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Pebbles und Din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0200" y="1989000"/>
            <a:ext cx="3886200" cy="4114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Durch die Tochter Pebbles, die im Februar 1963 das Licht der Urzeitwelt erblickt...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...und den Haushund Dino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9" name="Picture 4" descr="D:\Kurs 4015\Präsentationen\Flintstones\Dino_und_Pebbles_im_Rahmen.jpg"/>
          <p:cNvPicPr/>
          <p:nvPr/>
        </p:nvPicPr>
        <p:blipFill>
          <a:blip r:embed="rId1"/>
          <a:stretch/>
        </p:blipFill>
        <p:spPr>
          <a:xfrm>
            <a:off x="1371600" y="2666880"/>
            <a:ext cx="290340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9D4-C7FD-4F41-87E2-D45AD7AD9206}" type="slidenum">
              <a:t>7</a:t>
            </a:fld>
          </a:p>
        </p:txBody>
      </p:sp>
    </p:spTree>
  </p:cSld>
  <p:transition advTm="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etty und Barne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95120" y="5257800"/>
            <a:ext cx="586764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Auch Barney und seine Frau Betty bleiben nicht lange kinderlos...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2" name="Picture 4" descr="Betty_and_Barney_1"/>
          <p:cNvPicPr/>
          <p:nvPr/>
        </p:nvPicPr>
        <p:blipFill>
          <a:blip r:embed="rId1"/>
          <a:stretch/>
        </p:blipFill>
        <p:spPr>
          <a:xfrm>
            <a:off x="1295280" y="2514600"/>
            <a:ext cx="228600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5DC-187C-45AC-8E76-E059DABE25BB}" type="slidenum">
              <a:t>8</a:t>
            </a:fld>
          </a:p>
        </p:txBody>
      </p:sp>
    </p:spTree>
  </p:cSld>
  <p:transition advTm="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Times New Roman"/>
              </a:rPr>
              <a:t>BamBa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6400800" cy="2819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66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9900"/>
                </a:solidFill>
                <a:latin typeface="Comic Sans MS"/>
              </a:rPr>
              <a:t>Im Herbst 1963 finden sie auf ihrer Türschwelle den bärenstarken Bamm-Bamm mit der Keule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5" name="Picture 4" descr="D:\Kurs 4015\Präsentationen\Flintstones\Bambam_und_Dino.jpg"/>
          <p:cNvPicPr/>
          <p:nvPr/>
        </p:nvPicPr>
        <p:blipFill>
          <a:blip r:embed="rId1"/>
          <a:stretch/>
        </p:blipFill>
        <p:spPr>
          <a:xfrm>
            <a:off x="6248520" y="2438280"/>
            <a:ext cx="2286000" cy="2960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D:\Kurs 4015\Präsentationen\Flintstones\Barney_mit_Bambam.jpg"/>
          <p:cNvPicPr/>
          <p:nvPr/>
        </p:nvPicPr>
        <p:blipFill>
          <a:blip r:embed="rId2"/>
          <a:stretch/>
        </p:blipFill>
        <p:spPr>
          <a:xfrm>
            <a:off x="2514600" y="3429000"/>
            <a:ext cx="2286000" cy="28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e Figuren der Flintst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146-EAC4-49A5-9640-0D85C055FD8D}" type="slidenum">
              <a:t>9</a:t>
            </a:fld>
          </a:p>
        </p:txBody>
      </p:sp>
    </p:spTree>
  </p:cSld>
  <p:transition advTm="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21:53:55Z</dcterms:created>
  <dc:creator>Oliver Mochmann</dc:creator>
  <dc:description/>
  <dc:language>en-US</dc:language>
  <cp:lastModifiedBy>Administrator</cp:lastModifiedBy>
  <dcterms:modified xsi:type="dcterms:W3CDTF">2011-06-06T09:10:08Z</dcterms:modified>
  <cp:revision>18</cp:revision>
  <dc:subject/>
  <dc:title>PowerPoint-Präsentation</dc:title>
</cp:coreProperties>
</file>